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B36-1F75-466D-A913-B763DC92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4B0-87D5-467B-BEA7-A2BD548D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82A-7C7D-4CF7-B886-9DCFCF59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936-991A-4E52-AA30-84DB5D38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B745-B1D7-49FF-BB20-BFEA3603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96E4-9346-4C79-88CF-FA0C4A9C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2DA2-3612-4C91-A591-3F172C13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F53B-9B1B-4588-BDD2-1DC6998C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D093-64EA-4573-89C9-AED0CC7A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F875-A6D1-4C2C-B16A-8BB14D0F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8471-BB46-4885-91D1-5C0A35DF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C11-60C5-4C50-B3DE-CBC8CA51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0BB-B61B-43CE-A7E0-2EA87AE6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2FC1-58D3-42A3-93B9-73DF02D0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2504-E3DF-4F84-8A9D-4B2275C8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8F8A-054A-4C4C-8174-193AF164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F6E6-8985-47AF-81DF-1D1B33F8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05D-DA9B-4A10-8812-7F5A0A4F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B10-057A-4044-982F-654CB98A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BA5-F044-4BE2-9047-B31E1AAE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3D5-4CA3-4847-865C-8161BB16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7F9-823E-49D6-9D41-E7B0FA55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2FD-AC8B-42F6-B801-13AEE40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FBF-D904-4C4E-B33A-5A4D0F1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E903-40FC-4764-9480-478247000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Bodoni MT Black"/>
              </a:rPr>
              <a:t>Click to edit the title text format</a:t>
            </a:r>
            <a:endParaRPr b="0" lang="en-US" sz="8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s prepared by Cyndi Chie and Sarah Fry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BDE8-9DD2-4F37-9ECE-70C629263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0320" algn="ctr">
              <a:spcBef>
                <a:spcPts val="799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754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00640" algn="ctr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00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Bodoni MT Black"/>
              </a:rPr>
              <a:t>A Gift of Fire</a:t>
            </a:r>
            <a:br>
              <a:rPr sz="8000"/>
            </a:br>
            <a:r>
              <a:rPr b="0" lang="en-US" sz="2400" spc="-1" strike="noStrike">
                <a:solidFill>
                  <a:srgbClr val="ffcc66"/>
                </a:solidFill>
                <a:latin typeface="Bodoni MT Black"/>
              </a:rPr>
              <a:t>Third edition</a:t>
            </a:r>
            <a:br>
              <a:rPr sz="2400"/>
            </a:br>
            <a:r>
              <a:rPr b="0" lang="en-US" sz="4800" spc="-1" strike="noStrike">
                <a:solidFill>
                  <a:srgbClr val="ffcc66"/>
                </a:solidFill>
                <a:latin typeface="Bodoni MT Black"/>
              </a:rPr>
              <a:t>Sara Baase</a:t>
            </a:r>
            <a:endParaRPr b="0" lang="en-US" sz="48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8: Errors, Failures, and Ris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ase Study: The Therac-25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and Design 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used software from older systems, unaware of bugs in previo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es in design of operato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te test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s in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beam to deploy when table not in proper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ored changes and corrections operators made at cons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ase Study: The Therac-25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So Many Incid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 had never seen such massive overdoses before, were unsure of the ca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ufacturer said the machine could not have caused the overdoses and no other incidents had been reported (which was un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ufacturer made changes to the turntable and claimed they had improved safety after the second accident.  The changes did not correct any of the causes identifie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ase Study: The Therac-25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So Many Incidents?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s were made for further changes to enhance safety; the manufacturer did not implemen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DA declared the machine defective after the fifth acc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xth accident occurred while the FDA was negotiating with the manufacturer on what changes were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ase Study: The Therac-25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s and Perspe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or design and implementation errors usually occur in complex systems; they are to be ex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blems in the Therac-25 case were not minor and suggest ir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dents occurred on other radiation treatment equipment without computer controls when the technici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a patient after treatment started to attend a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not properly measure the radioactive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used micro-curies and milli-c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 judge who had to assign responsibility in this case, how much responsibility would you assign to the programmer, the manufacturer, and the hospital or clinic using the mach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Case Study: The Therac-25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ncreasing Reliability and Safety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goes Wr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nd develo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and us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representation, hiding problems and inadequate response to reported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fficient market or legal incentives to do a better j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use of software without sufficiently understanding the code and testing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update or maintain a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ncreasing Reliability and Safety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 techniq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ce of good software engineering and profession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interfaces and human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have as an experienced user exp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load that is too low can lead to mi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ndancy and self-che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real world testing with real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Increasing Reliability and Safety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, Regulation and Marke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inal and civil penal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incentives to produce good systems, but shouldn't inhibit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ranties for consumer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sold ‘as-i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on for safety-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 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uments for and again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ing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ependence, Risk, and Progres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We Too Dependent on Comput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are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the only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nd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new technologies were not very safe when they were first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evelop and improve new technologies in response to accidents and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compare the risks of using computers with the risks of other methods and the benefits to be g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believe we are too dependent on computers? 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at ways are we safer due to new technolog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ependence, Risk, and Progress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Discussion Question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What We Will Cover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s and Errors in Comput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y: The Therac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ing Reliability and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ce, Risk, and Pro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Failures and Errors in Computer Systems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uter applications are so complex it is virtually impossible to produce programs with no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use of failure is often more than one 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professionals must study failures to learn how to avoid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professionals must study failures to understand the impacts of poor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roblem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ing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curate and misinterpreted data i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population where people may share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processing may not be able to recognize special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confidence in the accuracy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s in data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countability for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Failur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&amp;T, Amtrak, NASD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es have gone bankrupt after spending huge amounts on computer systems that f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ing system in 2000 presidential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ver Air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ane 5 Ro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0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ver Airpor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ggage system failed due to real world problems, problems in other systems and software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allowed for development was insu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ver made significant changes in specifications after the project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level Causes of Computer-System Failu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clear, well thought out goals and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management and poor communication among customers, designers, programmer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s that encourage unrealistically low bids, low budget requests, and underestimates of time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very new technology, with unknown reliability and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usal to recognize or admit a project is in tr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Failures and Errors in Computer Systems (cont.)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-Critical Applic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320: "fly-by-the-wire" airplanes (many systems are controlled by computers and not directly by the pil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1988-1992 four planes cra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traffic control is extremely complex, and includes computers on the ground at airports, devices in thousands of airplanes, radar, databases, communications, and so on - all of which must work in real time, tracking airplanes that move very f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pite of problems, computers and other technologies have made air travel sa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doni MT Black"/>
              </a:rPr>
              <a:t>Case Study: The Therac-25</a:t>
            </a:r>
            <a:endParaRPr b="0" lang="en-US" sz="4400" spc="-1" strike="noStrike">
              <a:solidFill>
                <a:srgbClr val="ffcc66"/>
              </a:solidFill>
              <a:latin typeface="Bodoni MT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c-25 Radiation Overd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overdoses of radiation were given; the machine said no dose had been administered at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severe and painful injuries and the death of thre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to study to avoid repeatin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er, computer programmer, and hospitals/clinics all have some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0:42:23Z</dcterms:created>
  <dc:creator> </dc:creator>
  <dc:description/>
  <dc:language>en-US</dc:language>
  <cp:lastModifiedBy>Sara</cp:lastModifiedBy>
  <dcterms:modified xsi:type="dcterms:W3CDTF">2007-11-25T01:51:39Z</dcterms:modified>
  <cp:revision>42</cp:revision>
  <dc:subject/>
  <dc:title>         Gift of Fi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